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148-E03A-411C-A211-5C85FA3B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3FF-A995-4219-83D3-2236C417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3CB01-3091-435A-AFDF-1851692C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127C5-A1D5-4B7C-9C1B-13107647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0D9AC-6BE1-4001-842A-4114C63F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9489A-1C05-4AAC-B84D-437ACDB3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D0170-5A74-4C6A-8B34-24A0FDF6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19A73-BEF0-4F8E-BADA-70B7314A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FD0AC-FA40-4DC6-81C3-BF4F230D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0540B-E1BE-4F04-9EF9-CAD82A28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855B1-4486-45AB-9C68-C64EB1A2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2CB83-CBD4-4974-91A8-9434866E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6C7-165F-4A60-BF98-D962E857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DED49-E21F-4847-8FB3-E2A0EF8F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251D1-32DA-4A31-9C68-0B5F8E8C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0B8AD-0F38-4ED4-A3C9-FCD5A80C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DDE7A-ABF7-499B-A4E6-D10DBAC5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EABB7-100B-4DCD-A051-4EA5067E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BA0A6-E848-4738-AFE6-561F33AE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6FE08-C768-4296-90E8-D163A8AE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6F0CC-E59B-4992-9926-41558004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DE252-86C3-4A03-9B35-03747BD7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B9A12-EBCA-40D3-9B55-295E2433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EC3-9CC6-4433-BE83-D6B7BAB6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E2511-5FD7-4449-B800-6BC80AE0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13A3A-E1C3-408A-9424-A614C14B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9FA96-368D-4430-8363-2C7A2AE7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8DD54-686B-42F3-8F5B-63397AB3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65639-51DE-44B6-B90B-A70CEEF6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95D12-9B6F-4F72-9BB8-54E2E1C9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29E8F-5C7A-4074-8019-C58D27E2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AFF0E-D5D1-4827-89D4-C5422C1E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6DA99-6958-49CE-A8B0-D8F3684D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176FB-367B-42F8-B7B1-257C6783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92AA-E62E-4EF3-B3EE-48D4B8EE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2E23C-3593-4F82-898C-11884A22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1B4D2-91B3-4C10-8F9E-0B511026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CE636-8399-4675-865F-D66BB637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04D02-E105-4B02-8E9D-69358954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D90F6-06B5-4C8D-B942-9A41117C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CA23B-3B63-4D17-A45C-0022F090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AF4EC-2736-4C0B-BDDF-28984663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28CB0-AFF4-47E6-8835-6B846495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45EBF-3DEE-4531-9731-A1F9030E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A9525-D234-4EB9-9DDA-1B2475BB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08ED-9262-4F4A-87B9-A7065CA8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B865B-AE08-40FD-83C2-E173009E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6A7BC-3C14-43AA-B1C0-5CC4F52C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B25A4-9D5C-443E-BB23-FA772D75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BFF9B-F3DB-4AE5-AC13-D0223E29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D1247-79C9-4421-B5E2-121099AB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01A76-5456-4D74-8BD7-9E6815E6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8395F-67EF-4D41-8B76-D9FF6A2E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7907A-6A8E-43D1-8FA5-EE621D2C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50D8C-4362-4894-8000-5E94FDEC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A3095-75DF-44F2-AE7A-2FF147E5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FE10-375E-4E08-91DA-08309CEC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44961-1ED0-4CAA-8819-4F8C9090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4971D-C0A7-4EAA-A8F2-79BA7AAC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FF533-0A19-4744-A1D1-5FE9F449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FCFD2-76FE-43C7-B1B7-66021CE4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D29A1-5A29-426E-8F2D-8A01BDCD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6B05E-A309-4FA9-986A-E4F08A55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270E9-5A95-49F4-B9F6-7A3A5876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47403-9A88-41E9-8A8E-2010713C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877E2-3AC9-4A8C-92FF-D61FB8D2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2089C-D7FE-497C-A069-63CC4A12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B103-1659-474D-9D6F-B92416CA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5B8E8-6607-4FE0-A773-B3D570FD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0515D-C5B8-4DBF-95A9-BCA56BEA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E3509-DB1F-4D38-961D-2FDAC9F4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E0468-9D95-4C9F-869C-BFCFBDCC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DF619-CBEE-408F-A5B3-62FAD04E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91D31-CF64-4E0A-A7B2-FB82644F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7F159-CB69-455F-B822-775F5CED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DBE34-7929-4E48-83AD-814F9ABE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60CEF-A0E2-4A54-BA50-78C5560C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7A006-F272-4625-8D9D-9F81B518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BEE8-6B05-426D-B882-BC4AB22B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D35E9-C9FF-4656-8E2A-55BEC89E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770B8-0F62-4ED9-920E-1269F753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BA1CDA-5C1F-4710-B26C-EB648B3C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A6F0E6-6D66-4B60-9761-CE049250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2066B-B224-4C08-B95C-73ACEBA6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D782E5-E551-4DCD-8E7A-B7D5EC09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C9BA90-B720-49AF-BFE3-DFF8E685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02412-2E77-4FC9-87EC-EBC468A4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C26BF-8C33-4EB0-AEB4-FE2DA7FA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B84D1-574E-4515-99AA-0A0D1B18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6555-342C-405B-AAF9-EE3F58AA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C8AA0-425E-4605-A9BE-5DF91A56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787B82-ABAC-4902-A917-B1900DEF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6AE77-AAA9-4FE7-9D74-C07B8354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26C87-BDA6-47DC-A4DC-0F4B2710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35997-2926-4BD1-B28D-52DADA2F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199FB-C9CB-4C4D-B0B0-93D6CD55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33ECFB-A79F-4382-B891-A4FF8DFD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86E106-C379-46B8-A2C6-A6F242CB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FAFBEC-6E74-4C03-A5AF-544FCA93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8CC332-57B1-4C0B-B72E-70DBCE58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C04A-0EC2-4D7E-906F-48EF2854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A05C37-9CB4-4614-B749-5BEDAC3C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C6211-B414-4E7A-A996-DF46EB0E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240AC-2A49-4551-B3B3-C296E0B1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414F1C-0871-4511-8752-BBD7C24B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8405AB-CA2C-4BC0-B682-F8D928A7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A6A957-B5D8-4B94-9EE8-1A79766C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8B987E-7E22-47F3-8BA5-287DBF89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028B6-71C4-4F22-A05B-CD7F09F9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AAC84-360A-4B12-8B49-4B25E062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8FD419-2AAA-45BE-B32E-5F19D9F8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A3A-FCF7-47E3-983D-1FE0A08F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721C-3370-4992-A22E-83948F15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3FE943-9396-4CF2-B739-149622C2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3893D-342E-478D-9C9D-E58393B2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3856DB-4F94-4BB0-94E2-E363C807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E0730D-DD4E-4D5A-96C4-21125A61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21EA09-923D-4B66-AE9F-E041F7E5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135FE-0350-4C0F-BE70-A59EA775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CCD18C-7C14-459B-8DF6-974FB665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F2577A-B01C-465E-9453-EEE9CD22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E20EA6-F86F-403C-B320-006C9CAD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760495-8635-40E6-B10D-29C0BFC7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B5A2-B314-412D-BEC4-3368BC43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859A9C-65C0-4ABC-AB64-A9D8E64D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A4517-4E6A-4322-A2D9-2BFB14E7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E10EB8-16B2-493E-8544-6269AA5B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DB6C4E-654F-4F99-9467-E1236D06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5DBE9D-6807-4511-9CAB-FAFBCE79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031757-72DB-4617-B9EF-9FD3646F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20B97-24CF-4070-B93F-B9F3F31E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A6C4E4-69CB-44BA-9226-169B728D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35A8B4-E697-40E3-85C4-77C67B8B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1856C8-70F3-484A-9B7D-4947BD03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2180-9A71-46A4-AA1C-644605E0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ED2E11-1C53-4514-8B05-377B58B3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C3ACB9-56D5-4D9C-AFC7-BBA9D403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C17D96-D237-4525-A6A5-83066418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2603E-4501-4FC3-9A6C-506703E2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3A585-51DC-4746-B90F-C34124A1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ED6207-F2E7-47CE-B27E-C65CF912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200216-AA33-475F-AD30-BFBE6D21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F3130C-1B84-49E1-84E4-0A1BB4C8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C346D2-1D16-4A97-98D2-ED9FD289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9ADF6A-48E7-4C5D-88DE-FE2BB611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E8EA-958E-46AF-B472-0732B7A3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E1C74E-96F9-4CCF-A7AE-FDDEC224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16597B-DF25-4F71-A160-C1795523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6DD2F9-3BB0-48B9-8238-B682FC10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A82C67-9975-4AF9-9E29-95999BFE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FE4DF6-548E-4F35-84A1-CF588DD4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D7CC14-7E3A-4821-85EA-49267AAA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28C10A-4B29-45FF-90F2-05538C2B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61AD94-F261-4136-B7B1-791801FB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CBFAFB-D033-4D21-BD82-096EDD28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54CA6E-A72D-4074-8CEA-720A2D42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E05D-8A6A-4AAD-84A9-1665913B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D3BE76-AA15-4459-ACEE-69686364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091762-6F40-44EF-82F7-30738E28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E99D7D-06A8-4546-BCE2-1F0F48AC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4CBE3E-C606-4575-A9DF-4B2E166B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B193BD-3169-4F29-98C6-37A4857A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99250F-B9D9-4D75-B01C-9A288AD8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C87702-14DF-4DE8-9E01-B5D7F387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47D4B4-9B79-42C0-93CD-76CD066A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0EC0D6-6144-4F5D-B2A4-9022090E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559198-19FB-4639-AE04-0623FD81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777D-5E9C-4E51-B4FF-6BDA0E3F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C36BA5-66C3-480F-9EFD-763844B1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E35E80-9ED1-44FA-9817-C7677CD5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205FAD-0CF5-4E4B-9D30-6AEEBCC6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C266-6369-4DA9-B5A6-3563CDB1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8DBB6-A31B-4405-AF0E-02BFB661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A3CB-7309-4BA3-9F7E-AE575081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011DA-05FE-4139-A185-2FDC3047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E6A-95B7-4911-8125-EE7AE8DD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D7138-2D86-4CD0-8A0A-B2ABCB70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A6074-986A-4B5B-BDB1-004E9E5B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98A1A-E7C6-416E-81BB-7303E863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7CF46-7FE8-4DE8-A33B-6C4070CC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03E1-305F-4CCC-B26F-9E2CC614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784F4-A4B5-4DF5-973A-D4EF169F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A9113-246D-47D6-BDF5-97852A87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B3CFC-8A82-41F2-AE10-1C2A90E0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FAD65-68E6-4816-8870-55B9DC64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CD8D2-9C9C-4ED4-BB32-1820C1A4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910-AFFF-4882-AFBC-39E9D878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A9AA1-71A7-41A6-A087-6686CBD3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2E134-719A-4515-8E64-013F36DA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3A10-7BA7-457C-BBD6-C92682A9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135E0-F5FE-4926-AC27-CE974682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FE818-69DE-42E9-8D60-537D32DC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E85BC-A1BB-4B9E-936B-218B9F15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F9758-D606-4936-891C-D769C6AD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F3E87-5594-4583-8E69-BC22B921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84E42-F06F-4BEF-AB36-28778BB7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57F85-140A-4125-B944-89049219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7B53-5FB3-4574-B856-2DC052F7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19F6F-6637-4BAB-B564-9F765878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29702-CCCF-4774-942B-831CDB4C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012D4-DBC0-4C35-992B-EB147919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51B33-998B-44B7-A011-86617703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A0AC3-0538-460A-A274-DC76D94C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F370E-1C50-4434-92CA-5E86B9A9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760DC-AB52-47B7-A991-FB7B0248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B6B22-82CE-416B-A764-3CC44332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BAEED-E9C0-48A3-981E-FB115F10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A6008-8E0F-4BF0-A525-1491F9E8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AA9-157F-4E9C-8AF2-42878966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A31F5-2D2F-4BDD-A8BE-FC881114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EA865-941B-4643-8004-36449A1F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FB3E0-1844-4DF1-B3A2-9EEBC821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5C4E1-DA5A-44D1-ACF1-10E65CA6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384E5-0445-4027-93EC-A541001D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C2C50-4AE6-41D2-BF95-7DE1DED3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B0224-7023-4F8B-A0E8-0DFC08D8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5621C-B108-452C-999A-2720EBCA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99161-3581-42D6-BEE2-5FBD96F1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1D2D2-536F-40F0-9824-01939A86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898-600F-492D-9CB1-BAE2E1B3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9AD24-5093-4947-836E-4FA6803E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3A2F1-DD5F-4A0C-80F2-134EC413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2AD3A-D669-4D02-AC2B-3EEA147A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68632-FA75-4270-AA05-EDBA5783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55498-B5D1-4B5E-9387-9D16573C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D9F40-3453-452E-8048-52C2332A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1E4B1-D386-45FB-AF7A-59513A06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D3BDA-83F7-4B9D-A4E6-AEEAF98E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A9B2F-41E1-447E-BAD3-51529279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98B16-EDBA-44D7-BDA6-A81CB9A4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657-2F8D-431E-B3CC-F054C2E6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34419-F826-4F28-8E5A-0F1AC120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D21CD-092C-458F-8AC3-82B261C7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8738D-1BAD-4D53-B3CD-57B198BE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DD693-FBAC-487C-8FC4-E10F37F9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82ED6-DA8B-4AC3-88BD-20CB94E6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0336F-4E6D-4A96-B042-920C52FB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CD0F3-591A-4CC1-93FF-C8E25290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404C5-BD35-441E-B0DC-859F111B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DF077-62BE-4F3B-B452-2884F5BA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00FEB-220A-4135-A279-00BE3098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A98-15B3-433D-8EE9-B295DA74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A79A6-2F78-470A-BC09-45CBD055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106D4-9651-47AC-A17B-93A267A8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C31B2-7B53-4530-BC62-6F08D318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74C1B-BB34-4DE9-8E0A-61274B54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16655-C561-497E-BC86-13BE04F7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DE3F8-361F-497A-A085-2BAEAF4D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60C04-FA6F-477A-B600-31CD2B99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D7EF1-6B8E-4574-B5F7-AFF2FCE2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7FDE5-333D-46A8-B111-B650745E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0F42D-2F68-4E5B-84F3-DDDECACF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05B0-9361-4234-BE04-0AA6602C7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B51F-6B22-41E0-A8CA-57FF282871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DF93-7D93-4549-89DD-79E7E85BEC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A7ED-0F7B-454A-B8F6-5B659B116F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A3F0-0457-423D-86D2-C38CCD0709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634C-332C-40FF-A5CA-381BFCECF6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3F1F-2D61-4F44-A3ED-5031D31E91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BAF5-0FBC-4894-A2CF-BA533C7FF7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F9C7-3542-4F82-901B-268853126F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004A-11AA-495A-98DB-1ACC56FFF4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A7B3-625A-4012-8DE6-9AC0CA917F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C252-EEAD-495C-9A5D-CF86C0F617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E51F-FA8C-4412-B23C-343DDD49FD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8697-6F37-444C-853D-1B2D3F0DCF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395A-FBDD-4221-B9C6-9107C0212C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C81C-AD89-4B1C-8C61-0F47BD0F78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A237-68D3-4C90-8349-F5887373A4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EC36-3BBA-4FA7-A915-7618DA82DC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500F-13BF-44D6-8838-31E582739F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BAC2-0F1B-4EF2-B098-0A4DE371A0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F294-3E89-402A-92C0-00B3C6D659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A530-D782-4374-A5FC-C2CCA468D1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EE58-723E-4860-9500-36B0653753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5812-E422-4F05-B58C-8B14C2CAE6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2916-59E1-4F89-BBBC-6771616B4F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5E28-B959-4DAF-AA59-F0B6B903A7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A02F-99E3-4EAD-8CC4-002A78010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CBC8-4CD0-45F7-8372-A3E1A9D29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6B61-94DE-45BE-B32D-B520219081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BD2B-4BAF-4D99-9868-88F37CE561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105C-F078-4D7C-B761-9C0B7431ED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793D-90B5-4C48-BD6D-835B63F1D6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B1DC-0F7C-4315-AB21-F1288B9A76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5A20-D18B-4A85-95CC-757466B25E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6237-22E3-4C0B-98E0-032CCB0F58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5CB5-C964-4A2B-A4B3-D11BFD4CEA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7903-5646-4D79-B428-1F07A0D83F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F065-69D5-4629-8ED7-567268FA54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6926-DABB-454F-9D72-F80CFB29AD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05E9-E1D6-49BB-A527-812ED4CE4B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409840" y="3186000"/>
            <a:ext cx="43243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642960" y="1752480"/>
            <a:ext cx="7856640" cy="33530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368280" y="1008000"/>
            <a:ext cx="8408880" cy="54943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2"/>
          <a:stretch/>
        </p:blipFill>
        <p:spPr>
          <a:xfrm>
            <a:off x="7885080" y="387360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1" descr=""/>
          <p:cNvPicPr/>
          <p:nvPr/>
        </p:nvPicPr>
        <p:blipFill>
          <a:blip r:embed="rId1"/>
          <a:stretch/>
        </p:blipFill>
        <p:spPr>
          <a:xfrm>
            <a:off x="371520" y="790560"/>
            <a:ext cx="8400960" cy="58863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2"/>
          <a:stretch/>
        </p:blipFill>
        <p:spPr>
          <a:xfrm>
            <a:off x="4427640" y="3860640"/>
            <a:ext cx="1081080" cy="4431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3"/>
          <a:stretch/>
        </p:blipFill>
        <p:spPr>
          <a:xfrm>
            <a:off x="4427640" y="4446720"/>
            <a:ext cx="2520720" cy="4428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4"/>
          <a:stretch/>
        </p:blipFill>
        <p:spPr>
          <a:xfrm>
            <a:off x="6227640" y="5013360"/>
            <a:ext cx="792360" cy="4428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5"/>
          <a:stretch/>
        </p:blipFill>
        <p:spPr>
          <a:xfrm>
            <a:off x="1692360" y="6165720"/>
            <a:ext cx="496728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2" descr=""/>
          <p:cNvPicPr/>
          <p:nvPr/>
        </p:nvPicPr>
        <p:blipFill>
          <a:blip r:embed="rId1"/>
          <a:stretch/>
        </p:blipFill>
        <p:spPr>
          <a:xfrm>
            <a:off x="939960" y="1154160"/>
            <a:ext cx="4086000" cy="96192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3" descr=""/>
          <p:cNvPicPr/>
          <p:nvPr/>
        </p:nvPicPr>
        <p:blipFill>
          <a:blip r:embed="rId2"/>
          <a:stretch/>
        </p:blipFill>
        <p:spPr>
          <a:xfrm>
            <a:off x="828720" y="2409840"/>
            <a:ext cx="6810480" cy="232416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4" descr=""/>
          <p:cNvPicPr/>
          <p:nvPr/>
        </p:nvPicPr>
        <p:blipFill>
          <a:blip r:embed="rId3"/>
          <a:stretch/>
        </p:blipFill>
        <p:spPr>
          <a:xfrm>
            <a:off x="736560" y="4835520"/>
            <a:ext cx="6342120" cy="16956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4"/>
          <a:stretch/>
        </p:blipFill>
        <p:spPr>
          <a:xfrm>
            <a:off x="4211640" y="3005280"/>
            <a:ext cx="3673440" cy="4428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5"/>
          <a:stretch/>
        </p:blipFill>
        <p:spPr>
          <a:xfrm>
            <a:off x="3995640" y="3594240"/>
            <a:ext cx="3672000" cy="4428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6"/>
          <a:stretch/>
        </p:blipFill>
        <p:spPr>
          <a:xfrm>
            <a:off x="4140360" y="4210200"/>
            <a:ext cx="3671640" cy="4428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7"/>
          <a:stretch/>
        </p:blipFill>
        <p:spPr>
          <a:xfrm>
            <a:off x="4067280" y="4786200"/>
            <a:ext cx="3673440" cy="4431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8"/>
          <a:stretch/>
        </p:blipFill>
        <p:spPr>
          <a:xfrm>
            <a:off x="4067280" y="5386320"/>
            <a:ext cx="3673440" cy="4431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9"/>
          <a:stretch/>
        </p:blipFill>
        <p:spPr>
          <a:xfrm>
            <a:off x="3924360" y="6002280"/>
            <a:ext cx="36720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877240" cy="57056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3995640" y="2692440"/>
            <a:ext cx="649440" cy="287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3635280" y="3108240"/>
            <a:ext cx="649440" cy="287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2987640" y="3500280"/>
            <a:ext cx="649440" cy="2876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4859280" y="2868480"/>
            <a:ext cx="2089080" cy="2876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4859280" y="3357720"/>
            <a:ext cx="2016360" cy="287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3924360" y="4005360"/>
            <a:ext cx="649080" cy="287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8"/>
          <a:stretch/>
        </p:blipFill>
        <p:spPr>
          <a:xfrm>
            <a:off x="3780000" y="4437000"/>
            <a:ext cx="576000" cy="287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9"/>
          <a:stretch/>
        </p:blipFill>
        <p:spPr>
          <a:xfrm>
            <a:off x="2843280" y="4853160"/>
            <a:ext cx="649080" cy="287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10"/>
          <a:stretch/>
        </p:blipFill>
        <p:spPr>
          <a:xfrm>
            <a:off x="4859280" y="4221000"/>
            <a:ext cx="2089080" cy="2876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11"/>
          <a:stretch/>
        </p:blipFill>
        <p:spPr>
          <a:xfrm>
            <a:off x="4932360" y="4653000"/>
            <a:ext cx="1943280" cy="287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12"/>
          <a:stretch/>
        </p:blipFill>
        <p:spPr>
          <a:xfrm>
            <a:off x="7236000" y="4013280"/>
            <a:ext cx="151272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2" descr=""/>
          <p:cNvPicPr/>
          <p:nvPr/>
        </p:nvPicPr>
        <p:blipFill>
          <a:blip r:embed="rId1"/>
          <a:stretch/>
        </p:blipFill>
        <p:spPr>
          <a:xfrm>
            <a:off x="123840" y="942840"/>
            <a:ext cx="8896320" cy="55818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2"/>
          <a:stretch/>
        </p:blipFill>
        <p:spPr>
          <a:xfrm>
            <a:off x="2770200" y="1397160"/>
            <a:ext cx="433440" cy="287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3"/>
          <a:stretch/>
        </p:blipFill>
        <p:spPr>
          <a:xfrm>
            <a:off x="4356000" y="1413000"/>
            <a:ext cx="432000" cy="287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4"/>
          <a:stretch/>
        </p:blipFill>
        <p:spPr>
          <a:xfrm>
            <a:off x="6516720" y="1413000"/>
            <a:ext cx="503280" cy="287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5"/>
          <a:stretch/>
        </p:blipFill>
        <p:spPr>
          <a:xfrm>
            <a:off x="5580000" y="1773360"/>
            <a:ext cx="649440" cy="287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6"/>
          <a:stretch/>
        </p:blipFill>
        <p:spPr>
          <a:xfrm>
            <a:off x="5308560" y="2189160"/>
            <a:ext cx="649440" cy="287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7"/>
          <a:stretch/>
        </p:blipFill>
        <p:spPr>
          <a:xfrm>
            <a:off x="4859280" y="2604960"/>
            <a:ext cx="649440" cy="2876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8"/>
          <a:stretch/>
        </p:blipFill>
        <p:spPr>
          <a:xfrm>
            <a:off x="4500720" y="3429000"/>
            <a:ext cx="649080" cy="287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9"/>
          <a:stretch/>
        </p:blipFill>
        <p:spPr>
          <a:xfrm>
            <a:off x="7667640" y="3429000"/>
            <a:ext cx="649440" cy="287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10"/>
          <a:stretch/>
        </p:blipFill>
        <p:spPr>
          <a:xfrm>
            <a:off x="3492360" y="3860640"/>
            <a:ext cx="649440" cy="2876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11"/>
          <a:stretch/>
        </p:blipFill>
        <p:spPr>
          <a:xfrm>
            <a:off x="8372520" y="5726160"/>
            <a:ext cx="36036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119160" y="1004760"/>
            <a:ext cx="8905680" cy="54486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2"/>
          <a:stretch/>
        </p:blipFill>
        <p:spPr>
          <a:xfrm>
            <a:off x="8388360" y="996840"/>
            <a:ext cx="385920" cy="3286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3"/>
          <a:stretch/>
        </p:blipFill>
        <p:spPr>
          <a:xfrm>
            <a:off x="8388360" y="2276640"/>
            <a:ext cx="385920" cy="3283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4"/>
          <a:stretch/>
        </p:blipFill>
        <p:spPr>
          <a:xfrm>
            <a:off x="8388360" y="4037040"/>
            <a:ext cx="385920" cy="3286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5"/>
          <a:stretch/>
        </p:blipFill>
        <p:spPr>
          <a:xfrm>
            <a:off x="8372520" y="5748480"/>
            <a:ext cx="3855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461880" y="822240"/>
            <a:ext cx="8371080" cy="5865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2"/>
          <a:stretch/>
        </p:blipFill>
        <p:spPr>
          <a:xfrm>
            <a:off x="7983360" y="256536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314280" y="911160"/>
            <a:ext cx="8515440" cy="57326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2"/>
          <a:stretch/>
        </p:blipFill>
        <p:spPr>
          <a:xfrm>
            <a:off x="7983360" y="907920"/>
            <a:ext cx="519120" cy="4431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3"/>
          <a:stretch/>
        </p:blipFill>
        <p:spPr>
          <a:xfrm>
            <a:off x="7983360" y="3057480"/>
            <a:ext cx="519120" cy="4428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4"/>
          <a:stretch/>
        </p:blipFill>
        <p:spPr>
          <a:xfrm>
            <a:off x="7983360" y="460224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1" descr=""/>
          <p:cNvPicPr/>
          <p:nvPr/>
        </p:nvPicPr>
        <p:blipFill>
          <a:blip r:embed="rId1"/>
          <a:stretch/>
        </p:blipFill>
        <p:spPr>
          <a:xfrm>
            <a:off x="406440" y="887400"/>
            <a:ext cx="8332920" cy="5865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2"/>
          <a:stretch/>
        </p:blipFill>
        <p:spPr>
          <a:xfrm>
            <a:off x="7916760" y="247644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35040" y="946080"/>
            <a:ext cx="7875720" cy="3246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2"/>
          <a:stretch/>
        </p:blipFill>
        <p:spPr>
          <a:xfrm>
            <a:off x="4859280" y="2001960"/>
            <a:ext cx="3673440" cy="4428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3"/>
          <a:stretch/>
        </p:blipFill>
        <p:spPr>
          <a:xfrm>
            <a:off x="1187280" y="2525760"/>
            <a:ext cx="4105440" cy="4428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4"/>
          <a:stretch/>
        </p:blipFill>
        <p:spPr>
          <a:xfrm>
            <a:off x="7932600" y="3073320"/>
            <a:ext cx="519120" cy="4431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5"/>
          <a:stretch/>
        </p:blipFill>
        <p:spPr>
          <a:xfrm>
            <a:off x="1258920" y="3629160"/>
            <a:ext cx="39607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409680" y="973080"/>
            <a:ext cx="8324640" cy="55422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2"/>
          <a:stretch/>
        </p:blipFill>
        <p:spPr>
          <a:xfrm>
            <a:off x="5724360" y="537372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38:21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